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4AB1-77FD-4C1C-A351-12E21A509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64C0-E9E9-426A-84FE-2E651F32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0837-7F64-4C30-87C6-E9475F3E6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C194-06F4-4337-B418-8D8A5D87E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F041-9D21-4F41-B6E0-877A6DEB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B84C-7845-4514-B7A9-AEBC0BB1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8653-D082-4CA8-82FF-D791B7AF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D791-CAA8-4651-84C7-8FB65377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5466-15DE-4B0C-8987-D0655745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8803-02AE-4C9B-9BFC-12516050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CC17-E47B-4ED8-B70D-2096EEEA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23B7-4E24-42A9-A83E-D253B873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5C22-3AAC-4E25-927C-59A7314BC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slide15.xml"/><Relationship Id="rId10" Type="http://schemas.openxmlformats.org/officeDocument/2006/relationships/slide" Target=""/><Relationship Id="rId11" Type="http://schemas.openxmlformats.org/officeDocument/2006/relationships/slide" Target="slide16.xml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slide11.xml"/><Relationship Id="rId17" Type="http://schemas.openxmlformats.org/officeDocument/2006/relationships/slide" Target=""/><Relationship Id="rId18" Type="http://schemas.openxmlformats.org/officeDocument/2006/relationships/slide" Target="slide12.xml"/><Relationship Id="rId19" Type="http://schemas.openxmlformats.org/officeDocument/2006/relationships/slide" Target=""/><Relationship Id="rId20" Type="http://schemas.openxmlformats.org/officeDocument/2006/relationships/slide" Target="slide13.xml"/><Relationship Id="rId21" Type="http://schemas.openxmlformats.org/officeDocument/2006/relationships/slide" Target=""/><Relationship Id="rId22" Type="http://schemas.openxmlformats.org/officeDocument/2006/relationships/slide" Target="slide9.xml"/><Relationship Id="rId23" Type="http://schemas.openxmlformats.org/officeDocument/2006/relationships/slide" Target=""/><Relationship Id="rId24" Type="http://schemas.openxmlformats.org/officeDocument/2006/relationships/slide" Target="slide17.xml"/><Relationship Id="rId25" Type="http://schemas.openxmlformats.org/officeDocument/2006/relationships/slide" Target=""/><Relationship Id="rId26" Type="http://schemas.openxmlformats.org/officeDocument/2006/relationships/slide" Target="slide7.xml"/><Relationship Id="rId27" Type="http://schemas.openxmlformats.org/officeDocument/2006/relationships/slide" Target=""/><Relationship Id="rId28" Type="http://schemas.openxmlformats.org/officeDocument/2006/relationships/slide" Target=""/><Relationship Id="rId29" Type="http://schemas.openxmlformats.org/officeDocument/2006/relationships/slide" Target="slide19.xml"/><Relationship Id="rId30" Type="http://schemas.openxmlformats.org/officeDocument/2006/relationships/slide" Target=""/><Relationship Id="rId31" Type="http://schemas.openxmlformats.org/officeDocument/2006/relationships/slide" Target="slide20.xml"/><Relationship Id="rId32" Type="http://schemas.openxmlformats.org/officeDocument/2006/relationships/slide" Target=""/><Relationship Id="rId33" Type="http://schemas.openxmlformats.org/officeDocument/2006/relationships/slide" Target=""/><Relationship Id="rId34" Type="http://schemas.openxmlformats.org/officeDocument/2006/relationships/slide" Target="slide3.xml"/><Relationship Id="rId3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7724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250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25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d a unit vector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ion of &lt;5,-12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&lt;5/13,-12/13&gt;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itial Point:  (1.64,7.2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rminal Point:  (-2.33,3.8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&lt;-3.97,-3.35&gt;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v=&lt;6,0&gt; find llv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304920"/>
            <a:ext cx="716292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6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u=&lt;5,3&gt; and v=&lt;-4,0&gt; find 2u -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&lt;14,6&gt;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d a unit vector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ion of &lt;8,-20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&lt;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29/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-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29/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5486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&lt;-5,1&gt;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590920" y="1143000"/>
            <a:ext cx="3862440" cy="39625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flipH="1" flipV="1">
            <a:off x="3504960" y="365724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v=&lt;3,4&gt; what is llvl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u=&lt;5,3&gt; and v=&lt;-4,0&gt; find 3u - 2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&lt;23,9&gt;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d a unit vector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ion of i-2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5/5,-2√5/5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Point:  (-4.2,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l Point:  (3.7,-12.9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&lt;7.9,-17.9&gt;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8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9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1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2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3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380880"/>
            <a:ext cx="1600200" cy="5806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onent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380880"/>
            <a:ext cx="1752480" cy="3373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gnitu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380880"/>
            <a:ext cx="1600200" cy="6426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ector 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10280" y="380880"/>
            <a:ext cx="1752840" cy="3070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nit Vec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4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5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7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8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9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0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1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2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3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4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5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7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8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30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2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33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v = &lt;-24,-7&gt; what is llvl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2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u=2i-5j and v=-3i+4j find u +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–i-j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-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81080" y="19810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d a unit vector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ion of -3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Point (-3,11) Terminal Point (9,40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12,29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v=&lt;2,3&gt; find llv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13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u=&lt;8,-3&gt; what is –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152280"/>
            <a:ext cx="7086600" cy="13230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&lt;-8,3&gt;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nd a unit vector in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rection of &lt;0,-3&g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is &lt;0,-1&gt;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&lt;2,3&gt;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362320" y="1219320"/>
            <a:ext cx="3789360" cy="3886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flipV="1">
            <a:off x="3276720" y="2361960"/>
            <a:ext cx="6094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v=&lt;2,4&gt; what is llvl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228600"/>
            <a:ext cx="716256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u=&lt;5,3&gt; and v=&lt;-4,0&gt; find u +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&lt;1,3&gt;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abeason</cp:lastModifiedBy>
  <cp:lastPrinted>2001-01-31T16:21:13Z</cp:lastPrinted>
  <dcterms:modified xsi:type="dcterms:W3CDTF">2009-02-26T19:12:11Z</dcterms:modified>
  <cp:revision>80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